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8F7-521D-4F78-A1F3-B00AE169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4CA-4CBD-4CB7-8392-9B60D46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787-4767-4DBA-AD68-5C7BD641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FBD-279C-4423-958D-917A0FE0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99D-FEF0-43E2-9525-CAA67988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A83-42B4-4ED6-8D0F-E042AB3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F79-823E-4D5E-81C5-98270083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C9E-90C0-4F07-BCEE-2F898DC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BEB-F5D3-4314-BFE4-C930BD2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99E-A000-4FFF-87D7-3C13C13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100-1B37-4222-93CA-0B50D36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657-622D-4DA3-A896-42E18FF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334-DB12-4A17-BF86-270CA1804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32840"/>
            <a:ext cx="85690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экзамена по математи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классе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901000" cy="5745240"/>
        </p:xfrm>
        <a:graphic>
          <a:graphicData uri="http://schemas.openxmlformats.org/drawingml/2006/table">
            <a:tbl>
              <a:tblPr/>
              <a:tblGrid>
                <a:gridCol w="2555640"/>
                <a:gridCol w="1057320"/>
                <a:gridCol w="1057320"/>
                <a:gridCol w="1057320"/>
                <a:gridCol w="1058760"/>
                <a:gridCol w="1057320"/>
                <a:gridCol w="105732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981000"/>
          <a:ext cx="8905680" cy="5472360"/>
        </p:xfrm>
        <a:graphic>
          <a:graphicData uri="http://schemas.openxmlformats.org/drawingml/2006/table">
            <a:tbl>
              <a:tblPr/>
              <a:tblGrid>
                <a:gridCol w="3174840"/>
                <a:gridCol w="1146240"/>
                <a:gridCol w="1146240"/>
                <a:gridCol w="1146240"/>
                <a:gridCol w="1146240"/>
                <a:gridCol w="114588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"/>
          <p:cNvSpPr/>
          <p:nvPr/>
        </p:nvSpPr>
        <p:spPr>
          <a:xfrm>
            <a:off x="0" y="260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Геометрия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1268280"/>
          <a:ext cx="8640720" cy="5303880"/>
        </p:xfrm>
        <a:graphic>
          <a:graphicData uri="http://schemas.openxmlformats.org/drawingml/2006/table">
            <a:tbl>
              <a:tblPr/>
              <a:tblGrid>
                <a:gridCol w="490320"/>
                <a:gridCol w="6762960"/>
                <a:gridCol w="1387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Алгеб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Геомет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доказательные рассуждения при решении задач, оценивать логическую правильность рассуждений, распознавать ошибочные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86"/>
          <p:cNvSpPr/>
          <p:nvPr/>
        </p:nvSpPr>
        <p:spPr>
          <a:xfrm>
            <a:off x="539640" y="260280"/>
            <a:ext cx="8280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9920" y="836640"/>
          <a:ext cx="8870760" cy="5103720"/>
        </p:xfrm>
        <a:graphic>
          <a:graphicData uri="http://schemas.openxmlformats.org/drawingml/2006/table">
            <a:tbl>
              <a:tblPr/>
              <a:tblGrid>
                <a:gridCol w="3132000"/>
                <a:gridCol w="995400"/>
                <a:gridCol w="995400"/>
                <a:gridCol w="765360"/>
                <a:gridCol w="1225440"/>
                <a:gridCol w="782640"/>
                <a:gridCol w="97452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"/>
          <p:cNvSpPr/>
          <p:nvPr/>
        </p:nvSpPr>
        <p:spPr>
          <a:xfrm>
            <a:off x="-15840" y="189000"/>
            <a:ext cx="88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 по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2060640"/>
          <a:ext cx="8496000" cy="338616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3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8000" y="765000"/>
          <a:ext cx="8856720" cy="5999400"/>
        </p:xfrm>
        <a:graphic>
          <a:graphicData uri="http://schemas.openxmlformats.org/drawingml/2006/table">
            <a:tbl>
              <a:tblPr/>
              <a:tblGrid>
                <a:gridCol w="399960"/>
                <a:gridCol w="2701800"/>
                <a:gridCol w="1262160"/>
                <a:gridCol w="1123920"/>
                <a:gridCol w="1123920"/>
                <a:gridCol w="1122480"/>
                <a:gridCol w="1122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836640"/>
          <a:ext cx="8785440" cy="527364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620640"/>
          <a:ext cx="8856720" cy="6120000"/>
        </p:xfrm>
        <a:graphic>
          <a:graphicData uri="http://schemas.openxmlformats.org/drawingml/2006/table">
            <a:tbl>
              <a:tblPr/>
              <a:tblGrid>
                <a:gridCol w="2806920"/>
                <a:gridCol w="1135080"/>
                <a:gridCol w="1285920"/>
                <a:gridCol w="1284120"/>
                <a:gridCol w="1362240"/>
                <a:gridCol w="98244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14"/>
          <p:cNvSpPr/>
          <p:nvPr/>
        </p:nvSpPr>
        <p:spPr>
          <a:xfrm>
            <a:off x="107640" y="115920"/>
            <a:ext cx="944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0040" y="981000"/>
          <a:ext cx="8680680" cy="5472360"/>
        </p:xfrm>
        <a:graphic>
          <a:graphicData uri="http://schemas.openxmlformats.org/drawingml/2006/table">
            <a:tbl>
              <a:tblPr/>
              <a:tblGrid>
                <a:gridCol w="527040"/>
                <a:gridCol w="3202200"/>
                <a:gridCol w="961920"/>
                <a:gridCol w="1655640"/>
                <a:gridCol w="233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 +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26"/>
          <p:cNvSpPr/>
          <p:nvPr/>
        </p:nvSpPr>
        <p:spPr>
          <a:xfrm>
            <a:off x="-719640" y="188640"/>
            <a:ext cx="1058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Количество учащихся, не преодолевших порог по моду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 flipV="1">
            <a:off x="6877080" y="1125000"/>
            <a:ext cx="0" cy="45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700360" y="14367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М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020000" y="1484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93080" y="10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дуль «Геомет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08000" y="115920"/>
            <a:ext cx="88567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18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021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7" descr=""/>
          <p:cNvPicPr/>
          <p:nvPr/>
        </p:nvPicPr>
        <p:blipFill>
          <a:blip r:embed="rId1"/>
          <a:stretch/>
        </p:blipFill>
        <p:spPr>
          <a:xfrm>
            <a:off x="171360" y="963720"/>
            <a:ext cx="8801280" cy="5351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79280" y="0"/>
            <a:ext cx="8353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30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022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 flipV="1">
            <a:off x="6804000" y="1267920"/>
            <a:ext cx="0" cy="468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929800" cy="4973760"/>
        </p:xfrm>
        <a:graphic>
          <a:graphicData uri="http://schemas.openxmlformats.org/drawingml/2006/table">
            <a:tbl>
              <a:tblPr/>
              <a:tblGrid>
                <a:gridCol w="2836800"/>
                <a:gridCol w="760320"/>
                <a:gridCol w="762120"/>
                <a:gridCol w="762120"/>
                <a:gridCol w="760320"/>
                <a:gridCol w="762120"/>
                <a:gridCol w="761760"/>
                <a:gridCol w="762120"/>
                <a:gridCol w="762120"/>
              </a:tblGrid>
              <a:tr h="50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Нина Хайруллина</cp:lastModifiedBy>
  <dcterms:modified xsi:type="dcterms:W3CDTF">2022-04-14T16:58:57Z</dcterms:modified>
  <cp:revision>80</cp:revision>
  <dc:subject/>
  <dc:title>Слайд 1</dc:title>
</cp:coreProperties>
</file>